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09B1-073D-4BE9-AAD0-CAB6D04A3B4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8C2F-F335-4D7A-937F-9F40F07894E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A851-B77E-4952-8FE7-E2FD42E92CF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C695-2FCA-472F-AD60-EC7FC65511F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C2A2-8BDE-47DB-A96D-A1F4A18524F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92DA-0156-4DD4-9498-C140302AED1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04C9-DBF5-4294-AEA7-0B2F0B58B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AF66-A064-47A0-B781-E848040D2BF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B81F-1F66-4796-8AF1-3BAFD615841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F611-7746-4B67-B1F1-96E6D6DE01F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61F3-94E5-4EC0-925B-A4D8D628FE7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0623-8386-42D7-B487-EA2D457AEAF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481B-8649-4129-82C8-59C84CC1520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6295-4C59-4ADE-85AE-5F899AFEAF8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CA6F-C9C1-4936-B9DE-C64AFC083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682956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6760" y="2817000"/>
            <a:ext cx="682956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33325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56320" y="1213920"/>
            <a:ext cx="33325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6760" y="2817000"/>
            <a:ext cx="33325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856320" y="2817000"/>
            <a:ext cx="33325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21988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665800" y="1213920"/>
            <a:ext cx="21988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75200" y="1213920"/>
            <a:ext cx="21988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6760" y="2817000"/>
            <a:ext cx="21988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665800" y="2817000"/>
            <a:ext cx="21988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975200" y="2817000"/>
            <a:ext cx="21988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6829560" cy="30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6829560" cy="30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3332520" cy="30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856320" y="1213920"/>
            <a:ext cx="3332520" cy="30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42720" y="78840"/>
            <a:ext cx="617868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33325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856320" y="1213920"/>
            <a:ext cx="3332520" cy="30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6760" y="2817000"/>
            <a:ext cx="33325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3332520" cy="30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56320" y="1213920"/>
            <a:ext cx="33325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56320" y="2817000"/>
            <a:ext cx="33325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33325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56320" y="1213920"/>
            <a:ext cx="33325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6760" y="2817000"/>
            <a:ext cx="682956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6760" y="1213920"/>
            <a:ext cx="6829560" cy="30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Line 30"/>
          <p:cNvSpPr/>
          <p:nvPr/>
        </p:nvSpPr>
        <p:spPr>
          <a:xfrm>
            <a:off x="2143080" y="785880"/>
            <a:ext cx="617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7164360" y="5726160"/>
            <a:ext cx="1998720" cy="112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IVISION CELULARE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6760" y="2143080"/>
            <a:ext cx="771516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OPUESTA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 NYXS  - CARTIMEX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ODELO DE NEGOCIO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480" y="1142640"/>
            <a:ext cx="8389800" cy="7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224"/>
              </a:spcBef>
              <a:spcAft>
                <a:spcPts val="224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TRATECH  S.A.  COSTO ENSAMBLE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define un costo de ensamble (FEE) el cual será cancelado por equipo ensamblado.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330200" y="1916280"/>
            <a:ext cx="5473800" cy="1644480"/>
          </a:xfrm>
          <a:prstGeom prst="rect">
            <a:avLst/>
          </a:prstGeom>
          <a:ln w="0">
            <a:noFill/>
          </a:ln>
        </p:spPr>
      </p:pic>
      <p:sp>
        <p:nvSpPr>
          <p:cNvPr id="112" name="3 Rectángulo"/>
          <p:cNvSpPr/>
          <p:nvPr/>
        </p:nvSpPr>
        <p:spPr>
          <a:xfrm>
            <a:off x="250920" y="3500280"/>
            <a:ext cx="806616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STO COMERC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1908000" y="3933720"/>
            <a:ext cx="7218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ORQUE CARTIMEX ?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928800"/>
            <a:ext cx="764388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A NIVEL FINANCIERO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rupo solido a nivel financiero con ventas superiores a los 80 millones anuales.  Entre las 100 empresas mas grandes del Ecuador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tamos con 2 emisiones de obligaciones a largo plazo, calificadas con AAA en el sistema financiero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ructura financiera solida tanto a nivel de capital de trabajo como activos ,  que nos permite una i</a:t>
            </a: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ntegración vertical a nivel de importación, soporte, ensamble,   Ventas (B2B- B2Gov) y retail.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rédito - </a:t>
            </a: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Manejamos calificación de cartera  y cobranzas a nivel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obierno y corpora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tail (cadenas y pequeños negoci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vincia y negocios inform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suario final y tarjetas de crédi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ORQUE CARTIMEX ?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764640"/>
            <a:ext cx="8678880" cy="57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A NIVEL COMERCIAL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bertura a nivel nacional, oficinas comerciales en Quito y Guayaquil con vendedores especializados en diferente canales de distribución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quipo  humano 100% enfocado a la venta tecnológica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erencia de productos: por categorías y por marcas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erencia de ventas nacional y regional  distribuidore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erencia de ventas cadenas retail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quipo de ventas corporativo y gubernamental (Intellicom)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Vendedores de canales informales y especializados que cubren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nales especializados: distribuidores celulares, electrón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ercado gris:  bahía, plaza Ipi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Venta provinc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nejo de despachos y cobranzas a nivel nacional y por canal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ORQUE CARTIMEX ?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928800"/>
            <a:ext cx="8102520" cy="41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A NIVEL COMERCIAL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MOS DISTRIBUIDORES DE EQUIPOS CELULARES  DURANTE LOS ÚLTIMOS  7 AÑOS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NEJAMOS LA IMPORTACION DE TODAS LAS LINEAS DE PRDUCTOS: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UTO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NITORES, OPTICOS, IT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UDIO Y VIDEO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V (NEW)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NEMOS EXPERIENCIA REAL EN EL MERCADO ABIERTO DE CELULARE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7 Rectángulo"/>
          <p:cNvSpPr/>
          <p:nvPr/>
        </p:nvSpPr>
        <p:spPr>
          <a:xfrm>
            <a:off x="142920" y="857160"/>
            <a:ext cx="8929800" cy="592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LAN COBERTURA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92280" y="990720"/>
            <a:ext cx="180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alibri"/>
              </a:rPr>
              <a:t>CANA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070080" y="998640"/>
            <a:ext cx="1800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alibri"/>
              </a:rPr>
              <a:t>FASE 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02080" y="998640"/>
            <a:ext cx="1800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alibri"/>
              </a:rPr>
              <a:t>FASE 2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598320" y="2627280"/>
            <a:ext cx="1737000" cy="84132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Calibri"/>
              </a:rPr>
              <a:t>CADENAS </a:t>
            </a:r>
            <a:br>
              <a:rPr sz="1700"/>
            </a:br>
            <a:r>
              <a:rPr b="1" lang="es-ES_tradnl" sz="1700" spc="-1" strike="noStrike">
                <a:solidFill>
                  <a:srgbClr val="000000"/>
                </a:solidFill>
                <a:latin typeface="Calibri"/>
              </a:rPr>
              <a:t>RETAI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598320" y="3673440"/>
            <a:ext cx="1737000" cy="84132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Calibri"/>
              </a:rPr>
              <a:t>DISTRIBUIDORES PORT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20640" y="4780080"/>
            <a:ext cx="1736640" cy="84132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Calibri"/>
              </a:rPr>
              <a:t>DISTRIBUCION TECH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2763720" y="2505240"/>
            <a:ext cx="2286000" cy="98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TAIL CLAVES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COMANDATO –ARTEFACTA-COMPUT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3"/>
          <p:cNvSpPr/>
          <p:nvPr/>
        </p:nvSpPr>
        <p:spPr>
          <a:xfrm rot="10800000">
            <a:off x="3428640" y="5143680"/>
            <a:ext cx="1297080" cy="1792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2714760" y="4297320"/>
            <a:ext cx="228600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7928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Provinc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Electrónic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Computo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Accesorio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Bahía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Plaza Ipial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621400" y="2647800"/>
            <a:ext cx="2000160" cy="8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OTROS RETAIL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MEGAMAXI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ANGA - MARCIME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5692680" y="3648240"/>
            <a:ext cx="1928880" cy="86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RED DE PEQUEÑOS SUB DISTRIBUIDO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17"/>
          <p:cNvCxnSpPr>
            <a:stCxn id="128" idx="3"/>
            <a:endCxn id="131" idx="1"/>
          </p:cNvCxnSpPr>
          <p:nvPr/>
        </p:nvCxnSpPr>
        <p:spPr>
          <a:xfrm>
            <a:off x="5049720" y="2997360"/>
            <a:ext cx="572400" cy="7200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AutoShape 18"/>
          <p:cNvCxnSpPr>
            <a:stCxn id="135" idx="3"/>
            <a:endCxn id="132" idx="1"/>
          </p:cNvCxnSpPr>
          <p:nvPr/>
        </p:nvCxnSpPr>
        <p:spPr>
          <a:xfrm>
            <a:off x="5121000" y="3917880"/>
            <a:ext cx="572040" cy="16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6" name="Text Box 19"/>
          <p:cNvSpPr/>
          <p:nvPr/>
        </p:nvSpPr>
        <p:spPr>
          <a:xfrm>
            <a:off x="5621400" y="4838760"/>
            <a:ext cx="1800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alibri"/>
              </a:rPr>
              <a:t>PEQUEÑOS LOCALES</a:t>
            </a:r>
            <a:br>
              <a:rPr sz="1700"/>
            </a:br>
            <a:r>
              <a:rPr b="1" lang="es-ES" sz="1700" spc="-1" strike="noStrike">
                <a:solidFill>
                  <a:srgbClr val="000000"/>
                </a:solidFill>
                <a:latin typeface="Calibri"/>
              </a:rPr>
              <a:t>(COBERTURA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527040" y="2416320"/>
            <a:ext cx="1951200" cy="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549360" y="1295280"/>
            <a:ext cx="0" cy="21600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2709720" y="1295280"/>
            <a:ext cx="0" cy="21600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6"/>
          <p:cNvSpPr/>
          <p:nvPr/>
        </p:nvSpPr>
        <p:spPr>
          <a:xfrm>
            <a:off x="2760840" y="2416320"/>
            <a:ext cx="2431800" cy="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>
            <a:off x="2549520" y="2362320"/>
            <a:ext cx="0" cy="21564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8"/>
          <p:cNvSpPr/>
          <p:nvPr/>
        </p:nvSpPr>
        <p:spPr>
          <a:xfrm>
            <a:off x="5214960" y="1295280"/>
            <a:ext cx="0" cy="21600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0"/>
          <p:cNvSpPr/>
          <p:nvPr/>
        </p:nvSpPr>
        <p:spPr>
          <a:xfrm>
            <a:off x="5064120" y="2416320"/>
            <a:ext cx="2771640" cy="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1"/>
          <p:cNvSpPr/>
          <p:nvPr/>
        </p:nvSpPr>
        <p:spPr>
          <a:xfrm>
            <a:off x="5286240" y="1295280"/>
            <a:ext cx="0" cy="21600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2"/>
          <p:cNvSpPr/>
          <p:nvPr/>
        </p:nvSpPr>
        <p:spPr>
          <a:xfrm>
            <a:off x="7858080" y="1285920"/>
            <a:ext cx="0" cy="21600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3"/>
          <p:cNvSpPr/>
          <p:nvPr/>
        </p:nvSpPr>
        <p:spPr>
          <a:xfrm>
            <a:off x="620640" y="5788080"/>
            <a:ext cx="1584360" cy="8413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Calibri"/>
              </a:rPr>
              <a:t>GOBIERNO Y CORPORATIVO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4"/>
          <p:cNvSpPr/>
          <p:nvPr/>
        </p:nvSpPr>
        <p:spPr>
          <a:xfrm rot="5400000">
            <a:off x="6272280" y="3657600"/>
            <a:ext cx="3673440" cy="21600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"/>
          <p:cNvSpPr/>
          <p:nvPr/>
        </p:nvSpPr>
        <p:spPr>
          <a:xfrm rot="5400000">
            <a:off x="7889760" y="3400560"/>
            <a:ext cx="1413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alibri"/>
              </a:rPr>
              <a:t>USUARIO FINA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380880" y="1600200"/>
            <a:ext cx="152280" cy="4114800"/>
            <a:chOff x="380880" y="1600200"/>
            <a:chExt cx="152280" cy="4114800"/>
          </a:xfrm>
        </p:grpSpPr>
        <p:sp>
          <p:nvSpPr>
            <p:cNvPr id="150" name="Line 37"/>
            <p:cNvSpPr/>
            <p:nvPr/>
          </p:nvSpPr>
          <p:spPr>
            <a:xfrm>
              <a:off x="380880" y="1600200"/>
              <a:ext cx="0" cy="4114800"/>
            </a:xfrm>
            <a:prstGeom prst="line">
              <a:avLst/>
            </a:prstGeom>
            <a:ln w="316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>
              <a:off x="380880" y="5715000"/>
              <a:ext cx="152280" cy="0"/>
            </a:xfrm>
            <a:prstGeom prst="line">
              <a:avLst/>
            </a:prstGeom>
            <a:ln w="316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380880" y="1600200"/>
              <a:ext cx="152280" cy="0"/>
            </a:xfrm>
            <a:prstGeom prst="line">
              <a:avLst/>
            </a:prstGeom>
            <a:ln w="316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41"/>
          <p:cNvSpPr/>
          <p:nvPr/>
        </p:nvSpPr>
        <p:spPr>
          <a:xfrm rot="16200000">
            <a:off x="-747000" y="3266280"/>
            <a:ext cx="1800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666699"/>
                </a:solidFill>
                <a:latin typeface="Calibri"/>
              </a:rPr>
              <a:t>Productivo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41 Grupo"/>
          <p:cNvGrpSpPr/>
          <p:nvPr/>
        </p:nvGrpSpPr>
        <p:grpSpPr>
          <a:xfrm>
            <a:off x="2499480" y="1643040"/>
            <a:ext cx="81000" cy="5060880"/>
            <a:chOff x="2499480" y="1643040"/>
            <a:chExt cx="81000" cy="5060880"/>
          </a:xfrm>
        </p:grpSpPr>
        <p:sp>
          <p:nvSpPr>
            <p:cNvPr id="155" name="39 Conector recto"/>
            <p:cNvSpPr/>
            <p:nvPr/>
          </p:nvSpPr>
          <p:spPr>
            <a:xfrm>
              <a:off x="2499480" y="1643040"/>
              <a:ext cx="4680" cy="50608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40 Conector recto"/>
            <p:cNvSpPr/>
            <p:nvPr/>
          </p:nvSpPr>
          <p:spPr>
            <a:xfrm>
              <a:off x="2575800" y="1643040"/>
              <a:ext cx="4680" cy="50608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42 Grupo"/>
          <p:cNvGrpSpPr/>
          <p:nvPr/>
        </p:nvGrpSpPr>
        <p:grpSpPr>
          <a:xfrm>
            <a:off x="5204520" y="1571760"/>
            <a:ext cx="81000" cy="5060880"/>
            <a:chOff x="5204520" y="1571760"/>
            <a:chExt cx="81000" cy="5060880"/>
          </a:xfrm>
        </p:grpSpPr>
        <p:sp>
          <p:nvSpPr>
            <p:cNvPr id="158" name="43 Conector recto"/>
            <p:cNvSpPr/>
            <p:nvPr/>
          </p:nvSpPr>
          <p:spPr>
            <a:xfrm>
              <a:off x="5204520" y="1571760"/>
              <a:ext cx="4680" cy="50608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44 Conector recto"/>
            <p:cNvSpPr/>
            <p:nvPr/>
          </p:nvSpPr>
          <p:spPr>
            <a:xfrm>
              <a:off x="5280840" y="1571760"/>
              <a:ext cx="4680" cy="50608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45 Grupo"/>
          <p:cNvGrpSpPr/>
          <p:nvPr/>
        </p:nvGrpSpPr>
        <p:grpSpPr>
          <a:xfrm>
            <a:off x="7776360" y="1571760"/>
            <a:ext cx="81000" cy="5060880"/>
            <a:chOff x="7776360" y="1571760"/>
            <a:chExt cx="81000" cy="5060880"/>
          </a:xfrm>
        </p:grpSpPr>
        <p:sp>
          <p:nvSpPr>
            <p:cNvPr id="161" name="46 Conector recto"/>
            <p:cNvSpPr/>
            <p:nvPr/>
          </p:nvSpPr>
          <p:spPr>
            <a:xfrm>
              <a:off x="7776360" y="1571760"/>
              <a:ext cx="4680" cy="50608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47 Conector recto"/>
            <p:cNvSpPr/>
            <p:nvPr/>
          </p:nvSpPr>
          <p:spPr>
            <a:xfrm>
              <a:off x="7852680" y="1571760"/>
              <a:ext cx="4680" cy="50608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48 Grupo"/>
          <p:cNvGrpSpPr/>
          <p:nvPr/>
        </p:nvGrpSpPr>
        <p:grpSpPr>
          <a:xfrm>
            <a:off x="1620360" y="3575880"/>
            <a:ext cx="5715000" cy="71640"/>
            <a:chOff x="1620360" y="3575880"/>
            <a:chExt cx="5715000" cy="71640"/>
          </a:xfrm>
        </p:grpSpPr>
        <p:sp>
          <p:nvSpPr>
            <p:cNvPr id="164" name="49 Conector recto"/>
            <p:cNvSpPr/>
            <p:nvPr/>
          </p:nvSpPr>
          <p:spPr>
            <a:xfrm flipH="1">
              <a:off x="1620360" y="3575880"/>
              <a:ext cx="5715000" cy="46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50 Conector recto"/>
            <p:cNvSpPr/>
            <p:nvPr/>
          </p:nvSpPr>
          <p:spPr>
            <a:xfrm flipH="1">
              <a:off x="1620360" y="3642840"/>
              <a:ext cx="5715000" cy="46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51 Grupo"/>
          <p:cNvGrpSpPr/>
          <p:nvPr/>
        </p:nvGrpSpPr>
        <p:grpSpPr>
          <a:xfrm>
            <a:off x="1785600" y="3642480"/>
            <a:ext cx="3562200" cy="71640"/>
            <a:chOff x="1785600" y="3642480"/>
            <a:chExt cx="3562200" cy="71640"/>
          </a:xfrm>
        </p:grpSpPr>
        <p:sp>
          <p:nvSpPr>
            <p:cNvPr id="167" name="52 Conector recto"/>
            <p:cNvSpPr/>
            <p:nvPr/>
          </p:nvSpPr>
          <p:spPr>
            <a:xfrm flipH="1">
              <a:off x="1785600" y="3642480"/>
              <a:ext cx="3562200" cy="46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53 Conector recto"/>
            <p:cNvSpPr/>
            <p:nvPr/>
          </p:nvSpPr>
          <p:spPr>
            <a:xfrm flipH="1">
              <a:off x="1785600" y="3709440"/>
              <a:ext cx="3562200" cy="46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12"/>
          <p:cNvSpPr/>
          <p:nvPr/>
        </p:nvSpPr>
        <p:spPr>
          <a:xfrm>
            <a:off x="2692440" y="3664080"/>
            <a:ext cx="2428920" cy="50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ISTRIBUIDORES MASTER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5692680" y="1393920"/>
            <a:ext cx="2025720" cy="84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ISTRIBUIDORES 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MOVISTAR (COBERTUR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6"/>
          <p:cNvSpPr/>
          <p:nvPr/>
        </p:nvSpPr>
        <p:spPr>
          <a:xfrm>
            <a:off x="5205240" y="6114960"/>
            <a:ext cx="2557800" cy="457200"/>
          </a:xfrm>
          <a:prstGeom prst="rightArrow">
            <a:avLst>
              <a:gd name="adj1" fmla="val 61111"/>
              <a:gd name="adj2" fmla="val 109714"/>
            </a:avLst>
          </a:prstGeom>
          <a:solidFill>
            <a:srgbClr val="222268"/>
          </a:solidFill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FINANCIAMIENTO - FULLFIL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038400" y="1419120"/>
            <a:ext cx="1736640" cy="84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ff"/>
                </a:solidFill>
                <a:latin typeface="Calibri"/>
              </a:rPr>
              <a:t>CLARO</a:t>
            </a:r>
            <a:br>
              <a:rPr sz="1700"/>
            </a:br>
            <a:r>
              <a:rPr b="1" lang="es-ES_tradnl" sz="1700" spc="-1" strike="noStrike">
                <a:solidFill>
                  <a:srgbClr val="ffffff"/>
                </a:solidFill>
                <a:latin typeface="Calibri"/>
              </a:rPr>
              <a:t>(CONCENTRADO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0640" y="1482840"/>
            <a:ext cx="1736640" cy="84132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Calibri"/>
              </a:rPr>
              <a:t>CARRIER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857680" y="5945040"/>
            <a:ext cx="1736640" cy="687600"/>
          </a:xfrm>
          <a:prstGeom prst="rect">
            <a:avLst/>
          </a:prstGeom>
          <a:solidFill>
            <a:srgbClr val="222268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ff"/>
                </a:solidFill>
                <a:latin typeface="Calibri"/>
              </a:rPr>
              <a:t>C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NTECEDENTES DEL MERCADO OPE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7120" y="1285560"/>
            <a:ext cx="7500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Ecuador en los últimos 5 años ha sufrido una series de cambios tales como: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Incremento de aranceles en la importación de equipos celulares.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Freno del crecimiento agresivo de la reposición de celulares mantenida en el periodo 2003 – 2008.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Madures e incremento sustancial de la penetración de líneas celulares a través de los 2 principales carrier. (Porta – Movistar)  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Mejora de controles aduaneros y reducción de la importación ilegal de equipos celulares.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Finalmente, cuota para importación de celulares y restricción de permisos por marca.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NTECEDENTES DEL MERCADO OPE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6760" y="1143000"/>
            <a:ext cx="8535960" cy="346248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 NIVEL DE MARCAS: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olíticas gubernamentales desincentivan el modelo de negocio de los Headset  gamma baja Low end, por el efecto de cuota en dólares y unidades  incentivando la venta de equipos HIGH END de lato valor. (Modelo de ingreso de los distribuidores)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los últimos 2 años se lanzan opción genéricas como TV phone y Dual Sim, como fuente de ingresos adicionales para el canal de distribución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 OPEN MARKET se consolida como el principal vendedor de teléfonos innovadores  y de gamma alta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250920" y="4941720"/>
            <a:ext cx="7072200" cy="10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n vista de los anterior.  NOKIA toma el riesgo de partir con su distribuidor para el mercado  abierto entrando así a  cadenas de retail y manejando alianza con Movist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ERCADO OPE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792972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El mercado OPEN o mercado abierto, se podría definir de la siguiente forma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GRANDES RETAILS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DISTRIBUIDORES PORTA – MOVISTAR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PEQUEÑOS ALMACENES Y SUB-DISTRIBUIDORES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iendas electrón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ub-distribuidores Po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ub-distribuidores Movist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alleres de soporte técnic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VENTAS PUNTUALES A CARRIERS</a:t>
            </a: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NT (quiebres de inventario). Requiere facturación local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NYXS CELULARE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85341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o cuenta actualmente con presencia relevante en la venta de equipos en el mercado abierto ecuatoriano.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u participación de mercado depende de  la disponibilidad comercial de los Carriers locales y la condiciones comerciales y mercadeo  de los mismos.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ecesidad: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448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ejorar ventas y participación de mercado.  Via ensamble local a los carrier (corto plazo) y Open market  (mediano plazo)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448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ecesita posicionar la marca NYXS  como líder de tecnología celular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448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sminuir su dependencia comercial de los Carrier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4480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buClr>
                <a:srgbClr val="22226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rear un canal de distribución solido y atractivo para el vendedor de celulare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NYXS CELULARES: ESTRATEGIA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920" y="980640"/>
            <a:ext cx="8391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n aliado comercial y de producción  que le permita a NYXS CELULARES ingresar  de forma exitosa en el ECUADOR.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n aliado que tenga cobertura nacional y solidez financiera a fin de poder manejar stock  y Logística local.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n aliado comercial que tenga capacidad de cobertura en MULTIPLES CANALES de comercialización tecnológica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n aliado financiero  que tenga experiencia en calificación 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rédito en diferente canales y tipos de cartera. 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n jugador que tenga experiencia real en ensamble local y la logística que esta representa.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n aliando que  se sienta identificado 100% con la marca, a fin de darle prioridad comercial sobre otras marcas de equipos.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NYXS CELULARES: ENSAMBLE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480" y="1143000"/>
            <a:ext cx="8389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sarrollo de una planta de ensamble con las especificaciones requeridas por NYXS producción a fin de cumplir los requerimientos de calidad (RMA) requeridos por la marca y los carriers.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YXS  ayudara a proveer las herramientas necesarias a la planta de ensamble XTRATECH S.A. a fin de podar contar con equipos necesarios para un proceso de ensamble adecuado.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XTRATECH  S.A.  Sera responsable del manejo del recursos humano, logística y resguardo de los CKD de los equipos celulares.  NYXS sólo será responsable  por la administración del recursos humano a cargo  por el QC. (calidad)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s definiciones y parámetros de producción estarán regidos por un contrato master firmado entre XTRATECH  y NYXS.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NYXS CELULARES: MODELO DE NEGOCIO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480" y="1143000"/>
            <a:ext cx="83898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sarrollo de una planta de ensamble con las especificaciones requeridas por NYXS producción a fin de cumplir los requerimientos de calidad (RMA) requeridos por la marca y los carriers.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YXS  ayudará a proveer las herramientas necesarias a la planta de ensamble XTRATECH S.A. a fin de podar contar con equipos necesarios para un proceso de ensamble adecuado.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XTRATECH  S.A.  Será responsable del manejo del recursos humano, logística y resguardo de los CKD de los equipos celulares.  NYXS sólo será responsable  por la administración del recursos humano a cargo  por el QC. (calidad)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42720" y="78840"/>
            <a:ext cx="6178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ROCESO COMERCIA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92280" y="990720"/>
            <a:ext cx="180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alibri"/>
              </a:rPr>
              <a:t>NYXS CHIN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070080" y="998640"/>
            <a:ext cx="1800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alibri"/>
              </a:rPr>
              <a:t>FINANCIERO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757840" y="990720"/>
            <a:ext cx="1800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alibri"/>
              </a:rPr>
              <a:t>COMERCIAL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598320" y="2836800"/>
            <a:ext cx="1737000" cy="84132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RIBO Y LOGÍSTI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635040" y="4221000"/>
            <a:ext cx="1736640" cy="8416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ENSAMBLE XTRATE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2921040" y="2637000"/>
            <a:ext cx="2011320" cy="75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PAGO IMPUESTOS Y FLE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 rot="10800000">
            <a:off x="3428640" y="5143680"/>
            <a:ext cx="1297080" cy="1792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2790720" y="4437000"/>
            <a:ext cx="2286000" cy="13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a6a6a6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XTRATECH: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COSTOS FIJO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RECURSO HUMANO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COSTOS PRODUCCIÓ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DESPACHO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3279600" y="5862600"/>
            <a:ext cx="2070360" cy="8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ENTREGA Y DESPACHO DE PRODUCTO TERMINADO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18"/>
          <p:cNvCxnSpPr>
            <a:endCxn id="73" idx="1"/>
          </p:cNvCxnSpPr>
          <p:nvPr/>
        </p:nvCxnSpPr>
        <p:spPr>
          <a:xfrm flipH="1" rot="16200000">
            <a:off x="2942280" y="5958360"/>
            <a:ext cx="434160" cy="241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" name="Line 22"/>
          <p:cNvSpPr/>
          <p:nvPr/>
        </p:nvSpPr>
        <p:spPr>
          <a:xfrm>
            <a:off x="527040" y="2416320"/>
            <a:ext cx="1951200" cy="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549360" y="1295280"/>
            <a:ext cx="0" cy="21600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2709720" y="1295280"/>
            <a:ext cx="0" cy="21600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6"/>
          <p:cNvSpPr/>
          <p:nvPr/>
        </p:nvSpPr>
        <p:spPr>
          <a:xfrm>
            <a:off x="2760840" y="2416320"/>
            <a:ext cx="2431800" cy="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7"/>
          <p:cNvSpPr/>
          <p:nvPr/>
        </p:nvSpPr>
        <p:spPr>
          <a:xfrm>
            <a:off x="2549520" y="2362320"/>
            <a:ext cx="0" cy="21564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8"/>
          <p:cNvSpPr/>
          <p:nvPr/>
        </p:nvSpPr>
        <p:spPr>
          <a:xfrm>
            <a:off x="5214960" y="1295280"/>
            <a:ext cx="0" cy="21600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0"/>
          <p:cNvSpPr/>
          <p:nvPr/>
        </p:nvSpPr>
        <p:spPr>
          <a:xfrm>
            <a:off x="5064120" y="2416320"/>
            <a:ext cx="2771640" cy="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1"/>
          <p:cNvSpPr/>
          <p:nvPr/>
        </p:nvSpPr>
        <p:spPr>
          <a:xfrm>
            <a:off x="5286240" y="1295280"/>
            <a:ext cx="0" cy="216000"/>
          </a:xfrm>
          <a:prstGeom prst="line">
            <a:avLst/>
          </a:prstGeom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3"/>
          <p:cNvSpPr/>
          <p:nvPr/>
        </p:nvSpPr>
        <p:spPr>
          <a:xfrm>
            <a:off x="6953400" y="2782800"/>
            <a:ext cx="1306440" cy="519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MERCADO OPE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6948360" y="3544920"/>
            <a:ext cx="1339920" cy="5284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LARO /CARRIER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0"/>
          <p:cNvGrpSpPr/>
          <p:nvPr/>
        </p:nvGrpSpPr>
        <p:grpSpPr>
          <a:xfrm>
            <a:off x="380880" y="1600200"/>
            <a:ext cx="152280" cy="4114800"/>
            <a:chOff x="380880" y="1600200"/>
            <a:chExt cx="152280" cy="4114800"/>
          </a:xfrm>
        </p:grpSpPr>
        <p:sp>
          <p:nvSpPr>
            <p:cNvPr id="86" name="Line 37"/>
            <p:cNvSpPr/>
            <p:nvPr/>
          </p:nvSpPr>
          <p:spPr>
            <a:xfrm>
              <a:off x="380880" y="1600200"/>
              <a:ext cx="0" cy="4114800"/>
            </a:xfrm>
            <a:prstGeom prst="line">
              <a:avLst/>
            </a:prstGeom>
            <a:ln w="316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8"/>
            <p:cNvSpPr/>
            <p:nvPr/>
          </p:nvSpPr>
          <p:spPr>
            <a:xfrm>
              <a:off x="380880" y="5715000"/>
              <a:ext cx="152280" cy="0"/>
            </a:xfrm>
            <a:prstGeom prst="line">
              <a:avLst/>
            </a:prstGeom>
            <a:ln w="316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9"/>
            <p:cNvSpPr/>
            <p:nvPr/>
          </p:nvSpPr>
          <p:spPr>
            <a:xfrm>
              <a:off x="380880" y="1600200"/>
              <a:ext cx="152280" cy="0"/>
            </a:xfrm>
            <a:prstGeom prst="line">
              <a:avLst/>
            </a:prstGeom>
            <a:ln w="316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41"/>
          <p:cNvSpPr/>
          <p:nvPr/>
        </p:nvSpPr>
        <p:spPr>
          <a:xfrm rot="16200000">
            <a:off x="-747000" y="3266280"/>
            <a:ext cx="1800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666699"/>
                </a:solidFill>
                <a:latin typeface="Calibri"/>
              </a:rPr>
              <a:t>Productivo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41 Grupo"/>
          <p:cNvGrpSpPr/>
          <p:nvPr/>
        </p:nvGrpSpPr>
        <p:grpSpPr>
          <a:xfrm>
            <a:off x="2499480" y="1643040"/>
            <a:ext cx="81000" cy="5060880"/>
            <a:chOff x="2499480" y="1643040"/>
            <a:chExt cx="81000" cy="5060880"/>
          </a:xfrm>
        </p:grpSpPr>
        <p:sp>
          <p:nvSpPr>
            <p:cNvPr id="91" name="39 Conector recto"/>
            <p:cNvSpPr/>
            <p:nvPr/>
          </p:nvSpPr>
          <p:spPr>
            <a:xfrm>
              <a:off x="2499480" y="1643040"/>
              <a:ext cx="4680" cy="50608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40 Conector recto"/>
            <p:cNvSpPr/>
            <p:nvPr/>
          </p:nvSpPr>
          <p:spPr>
            <a:xfrm>
              <a:off x="2575800" y="1643040"/>
              <a:ext cx="4680" cy="50608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42 Grupo"/>
          <p:cNvGrpSpPr/>
          <p:nvPr/>
        </p:nvGrpSpPr>
        <p:grpSpPr>
          <a:xfrm>
            <a:off x="5395320" y="1606680"/>
            <a:ext cx="81000" cy="5060880"/>
            <a:chOff x="5395320" y="1606680"/>
            <a:chExt cx="81000" cy="5060880"/>
          </a:xfrm>
        </p:grpSpPr>
        <p:sp>
          <p:nvSpPr>
            <p:cNvPr id="94" name="43 Conector recto"/>
            <p:cNvSpPr/>
            <p:nvPr/>
          </p:nvSpPr>
          <p:spPr>
            <a:xfrm>
              <a:off x="5395320" y="1606680"/>
              <a:ext cx="4680" cy="50608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44 Conector recto"/>
            <p:cNvSpPr/>
            <p:nvPr/>
          </p:nvSpPr>
          <p:spPr>
            <a:xfrm>
              <a:off x="5471640" y="1606680"/>
              <a:ext cx="4680" cy="50608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48 Grupo"/>
          <p:cNvGrpSpPr/>
          <p:nvPr/>
        </p:nvGrpSpPr>
        <p:grpSpPr>
          <a:xfrm>
            <a:off x="2549520" y="3575880"/>
            <a:ext cx="2736720" cy="189000"/>
            <a:chOff x="2549520" y="3575880"/>
            <a:chExt cx="2736720" cy="189000"/>
          </a:xfrm>
        </p:grpSpPr>
        <p:sp>
          <p:nvSpPr>
            <p:cNvPr id="97" name="49 Conector recto"/>
            <p:cNvSpPr/>
            <p:nvPr/>
          </p:nvSpPr>
          <p:spPr>
            <a:xfrm flipH="1">
              <a:off x="2549520" y="3575880"/>
              <a:ext cx="2736720" cy="1260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50 Conector recto"/>
            <p:cNvSpPr/>
            <p:nvPr/>
          </p:nvSpPr>
          <p:spPr>
            <a:xfrm flipH="1">
              <a:off x="2549520" y="3752280"/>
              <a:ext cx="2736720" cy="1260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12"/>
          <p:cNvSpPr/>
          <p:nvPr/>
        </p:nvSpPr>
        <p:spPr>
          <a:xfrm>
            <a:off x="2846520" y="3664080"/>
            <a:ext cx="2274840" cy="67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YX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UMOS PRODUCCION CAJAS/ETIQUETAS/ INSUM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692680" y="1393920"/>
            <a:ext cx="2025720" cy="84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DEN DE COMPRA (P.O.). CARRI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038400" y="1419120"/>
            <a:ext cx="1736640" cy="84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RÉDITO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20640" y="1482840"/>
            <a:ext cx="1736640" cy="84132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ENVÍO CK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978600" y="4265640"/>
            <a:ext cx="1339920" cy="603360"/>
          </a:xfrm>
          <a:prstGeom prst="rect">
            <a:avLst/>
          </a:prstGeom>
          <a:solidFill>
            <a:srgbClr val="222268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ff"/>
                </a:solidFill>
                <a:latin typeface="Calibri"/>
              </a:rPr>
              <a:t>C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Flecha abajo"/>
          <p:cNvSpPr/>
          <p:nvPr/>
        </p:nvSpPr>
        <p:spPr>
          <a:xfrm>
            <a:off x="1258920" y="2349360"/>
            <a:ext cx="360360" cy="492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58 Flecha abajo"/>
          <p:cNvSpPr/>
          <p:nvPr/>
        </p:nvSpPr>
        <p:spPr>
          <a:xfrm>
            <a:off x="1258920" y="3728880"/>
            <a:ext cx="360360" cy="492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3 Flecha doblada hacia arriba"/>
          <p:cNvSpPr/>
          <p:nvPr/>
        </p:nvSpPr>
        <p:spPr>
          <a:xfrm rot="5400000">
            <a:off x="1210680" y="5186520"/>
            <a:ext cx="1390680" cy="1143000"/>
          </a:xfrm>
          <a:custGeom>
            <a:avLst/>
            <a:gdLst/>
            <a:ahLst/>
            <a:rect l="l" t="t" r="r" b="b"/>
            <a:pathLst>
              <a:path w="1390650" h="1143000">
                <a:moveTo>
                  <a:pt x="0" y="693424"/>
                </a:moveTo>
                <a:lnTo>
                  <a:pt x="880112" y="693424"/>
                </a:lnTo>
                <a:lnTo>
                  <a:pt x="880112" y="285750"/>
                </a:lnTo>
                <a:lnTo>
                  <a:pt x="819150" y="285750"/>
                </a:lnTo>
                <a:lnTo>
                  <a:pt x="1104900" y="0"/>
                </a:lnTo>
                <a:lnTo>
                  <a:pt x="1390650" y="285750"/>
                </a:lnTo>
                <a:lnTo>
                  <a:pt x="1329688" y="285750"/>
                </a:lnTo>
                <a:lnTo>
                  <a:pt x="1329688" y="1143000"/>
                </a:lnTo>
                <a:lnTo>
                  <a:pt x="0" y="1143000"/>
                </a:lnTo>
                <a:lnTo>
                  <a:pt x="0" y="693424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71 Flecha doblada hacia arriba"/>
          <p:cNvSpPr/>
          <p:nvPr/>
        </p:nvSpPr>
        <p:spPr>
          <a:xfrm>
            <a:off x="5533920" y="5267160"/>
            <a:ext cx="1390680" cy="1143000"/>
          </a:xfrm>
          <a:custGeom>
            <a:avLst/>
            <a:gdLst/>
            <a:ahLst/>
            <a:rect l="l" t="t" r="r" b="b"/>
            <a:pathLst>
              <a:path w="1390650" h="1143000">
                <a:moveTo>
                  <a:pt x="0" y="831944"/>
                </a:moveTo>
                <a:lnTo>
                  <a:pt x="949372" y="831944"/>
                </a:lnTo>
                <a:lnTo>
                  <a:pt x="949372" y="313456"/>
                </a:lnTo>
                <a:lnTo>
                  <a:pt x="819150" y="313456"/>
                </a:lnTo>
                <a:lnTo>
                  <a:pt x="1104900" y="0"/>
                </a:lnTo>
                <a:lnTo>
                  <a:pt x="1390650" y="313456"/>
                </a:lnTo>
                <a:lnTo>
                  <a:pt x="1260428" y="313456"/>
                </a:lnTo>
                <a:lnTo>
                  <a:pt x="1260428" y="1143000"/>
                </a:lnTo>
                <a:lnTo>
                  <a:pt x="0" y="1143000"/>
                </a:lnTo>
                <a:lnTo>
                  <a:pt x="0" y="831944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4 Abrir corchete"/>
          <p:cNvSpPr/>
          <p:nvPr/>
        </p:nvSpPr>
        <p:spPr>
          <a:xfrm>
            <a:off x="6245280" y="2637000"/>
            <a:ext cx="847800" cy="2425680"/>
          </a:xfrm>
          <a:custGeom>
            <a:avLst/>
            <a:gdLst>
              <a:gd name="textAreaLeft" fmla="*/ 249120 w 847800"/>
              <a:gd name="textAreaRight" fmla="*/ 848160 w 847800"/>
              <a:gd name="textAreaTop" fmla="*/ 35280 h 2425680"/>
              <a:gd name="textAreaBottom" fmla="*/ 2390400 h 242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5"/>
                  <a:pt x="0" y="629"/>
                </a:cubicBezTo>
                <a:lnTo>
                  <a:pt x="0" y="20971"/>
                </a:lnTo>
                <a:cubicBezTo>
                  <a:pt x="0" y="2128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9:51:09Z</dcterms:created>
  <dc:creator>FERNANDO TERAN</dc:creator>
  <dc:description/>
  <dc:language>en-US</dc:language>
  <cp:lastModifiedBy>fteran</cp:lastModifiedBy>
  <dcterms:modified xsi:type="dcterms:W3CDTF">2013-03-01T20:49:58Z</dcterms:modified>
  <cp:revision>596</cp:revision>
  <dc:subject/>
  <dc:title>INTRODUCCIÓN AL MARKETING</dc:title>
</cp:coreProperties>
</file>